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1.png" ContentType="image/png"/>
  <Override PartName="/ppt/media/image49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5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6.png" ContentType="image/png"/>
  <Override PartName="/ppt/media/image64.jpeg" ContentType="image/jpeg"/>
  <Override PartName="/ppt/media/image28.png" ContentType="image/png"/>
  <Override PartName="/ppt/media/image29.jpeg" ContentType="image/jpeg"/>
  <Override PartName="/ppt/media/image6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jpeg" ContentType="image/jpeg"/>
  <Override PartName="/ppt/media/image61.jpeg" ContentType="image/jpeg"/>
  <Override PartName="/ppt/media/image26.png" ContentType="image/png"/>
  <Override PartName="/ppt/media/image12.png" ContentType="image/png"/>
  <Override PartName="/ppt/media/image19.jpeg" ContentType="image/jpeg"/>
  <Override PartName="/ppt/media/image42.jpeg" ContentType="image/jpeg"/>
  <Override PartName="/ppt/media/image65.png" ContentType="image/png"/>
  <Override PartName="/ppt/media/image21.jpeg" ContentType="image/jpeg"/>
  <Override PartName="/ppt/media/image2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48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1.jpeg" ContentType="image/jpeg"/>
  <Override PartName="/ppt/media/image33.jpeg" ContentType="image/jpeg"/>
  <Override PartName="/ppt/media/image9.jpeg" ContentType="image/jpeg"/>
  <Override PartName="/ppt/media/image36.png" ContentType="image/png"/>
  <Override PartName="/ppt/media/image40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DAF-5EF1-4F0F-A970-C5B9CD1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3C1-4703-47E2-836C-02E25013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B0C-6B00-412B-89FF-D6E4AE5A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34F-8B02-4958-8513-8855D1EC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96F9-1AB8-45B1-8FB3-0A311E65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B03A-8224-4061-B9AF-55905E0A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F1B1-A74C-46D9-B06A-A898627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3FF-8E2A-48A4-9B7F-6E8DF5B6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1A4F-5574-48EA-BD13-6C274EB5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A2F7-9D3B-47FA-82E4-999228FE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62FE-8ACA-4152-B37F-7979A8D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A4F-9BD5-4750-8577-B3D72FB8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8744-DFA5-43A3-80FF-B5F4C62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5177-473B-42B8-B74B-1A78031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FB28-C1B1-4506-8CA7-18E14FA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5E58-2BA1-43E7-B20A-85FF28B7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504-8C19-4CCE-AEAF-F808E597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97DB-C985-44BE-B0F8-CC246C70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1077-CD99-4C9D-86B3-1061CA5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7004-1552-4A99-99D1-CCB615E8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4537-5528-42FD-A316-8EA16A9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6B9E-FC42-442B-8849-D760557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8F3-4C72-4134-B5FC-DFE1AA2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EBC2-27E4-4E7E-9FF6-AA525B8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2740-707F-44E2-9DC5-2FA3AB7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60BE-C018-4A89-A34F-447DBA5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6959-E801-4A92-9C02-4A362AEC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F097-97A7-45D9-A68E-B11F2D20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CF69-0021-46F8-A47C-3E515A7D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AEC8-A022-4C90-B00E-8772090B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EA36-A93C-4738-A9F3-8A54E60F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CC24-8EDB-4769-830A-E05D050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8249-A918-44E5-808C-E8FE7F85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27D-76F1-4C04-849B-70BE2BE7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EBE3-DEBA-49B1-9D2C-40A817A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4425-652D-41C1-AB4B-F845D529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39BA-45E8-40D1-858C-A9EE316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2111-D9FE-4EA1-BF84-B44ADA5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B2B2-15FD-4ED7-9B6B-7B1FCBE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E7CA-23FA-47AA-A05F-854B4A3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B0CE-7D08-4304-9F30-BC31BAAC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F293-85B2-4F2F-BB03-089FB751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BE04-CF0D-427E-9FAE-312E39A6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1D87-4DEC-443F-A4F9-5A221BAE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A87-73DD-4FB0-8367-873E3B60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8FA8-4A20-4514-BA73-4A41B8AF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744F-5992-4DFF-B5FB-C68D10EC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EF47-23FF-4DC7-A71D-8B34B70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79C9-40D5-45E1-A4DF-1A352061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B451-E8CB-4F90-B4DC-A9688A93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9F65-2919-463B-B136-3644BA4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47E5-8CB1-4B55-AFB8-994D0B4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681A-9156-415A-83DE-F57326D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605A6-1A53-49CB-9E3B-B98994A6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48B0E-40E4-4BE6-A3CF-197BE68E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82E-9E06-4718-8C85-9E27517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DDE6-454E-4277-ABB1-820BA647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C78-A846-4393-A4B0-73DAB5D3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284-5FBC-4AB6-BFF7-F1A2A62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0CD-2362-498A-BD8D-A7EE743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33B-6BAC-4E41-AEE9-43E032EA3F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1"/>
          <p:cNvPicPr/>
          <p:nvPr/>
        </p:nvPicPr>
        <p:blipFill>
          <a:blip r:embed="rId4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A1B-A2E2-4575-86F4-8A5AFE8CC22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903-7C3E-4A45-AEF3-FB6B1CB02C2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6BE9-1E92-44EF-BCFF-78F61215499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A5DE-4C25-4FEB-A7CB-ED788883C18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z0_PL8pP0cvNLCpJLU7N0ysq1U_KyU_XNzE2sDSzMDewNDbRD87PyUtNzsirzEzVTc5ILK7M1M1L1E1JTM5IZbiw68KGiw0Xmy7suLAXxFa42Hhh34XdQM7Wi-0X9l7svtiqAGRsAAtvYjA0sTAxsjS3MLVgqD8m5y52py6TTXeeE2905VQAcgNAzw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Ly8v10tKTKrUKyrVT8rJTy_WL8gvLtE3srQwNbawNDTSNTUyMzW0MDTRZ7iw68KGiw0Xmy7suLAXxFa42Hhh34XdQM7Wi-0X9l7svtiqAGRsAAtvYjA0sTAxsjS3MLVgCF7ry_gk5qydtxpj8rfnzdUA9GY4oA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go.mail.ru/redir?q=&#1082;&#1072;&#1088;&#1090;&#1080;&#1085;&#1082;&#1072;%20&#1087;&#1077;&#1089;&#1086;&#1095;&#1085;&#1099;&#1077;%20&#1095;&#1072;&#1089;&#1099;&amp;via_page=1&amp;type=sr&amp;redir=eJzLKCkpsNLXT8spLUgt0isq1S9JTNdXdTFQdXIDk6aqLoaqFoZgtiuYbQ5mu4DZThA1DBd2XdhwseFi04UdF_aC2AoX9l_YerHxwr6L7Rf2Xuy-sFUByNhwsfFiN4OhiYWJkaW5pbkFQ9ixmTmKzNWvFnokq3buPxQNAKZ5OEY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go.mail.ru/redir?q=&#1082;&#1072;&#1088;&#1090;&#1080;&#1085;&#1082;&#1072;%20&#1089;&#1086;&#1074;&#1088;&#1077;&#1084;&#1077;&#1085;&#1085;&#1099;&#1077;%20&#1085;&#1072;&#1089;&#1090;&#1077;&#1085;&#1085;&#1099;&#1077;%20&#1095;&#1072;&#1089;&#1099;&amp;via_page=1&amp;type=sr&amp;redir=eJzLKCkpsNLXLyrVS8zJTK0oKEotLtZLzs_VL9cvz8jPSS1OzEnVzS9LzNEtLE0sKqnSLchJLC7JTNYtT8zJ0U3OyU_O1ssoyc1huLDrwoaLDRebLuy4sBfEVrjYeGHfhU0XGy5svbAHiPde2Hux-8JWBSBjw8VGoDqE0MV2sFA3g6GJhYmRpYWBpQFDxn_FSHZv1y_iX6bcylYy6gMAIE1T5Q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go.mail.ru/redir?q=&#1082;&#1072;&#1088;&#1090;&#1080;&#1085;&#1082;&#1072;%20&#1089;&#1086;&#1074;&#1088;&#1077;&#1084;&#1077;&#1085;&#1085;&#1099;&#1077;%20&#1085;&#1072;&#1087;&#1086;&#1083;&#1100;&#1085;&#1099;&#1077;%20&#1095;&#1072;&#1089;&#1099;&amp;via_page=1&amp;type=sr&amp;redir=eJzLKCkpsNLXL8pMSsypTM7QKyrVNzIwNNE3MALS-nmJBfk5eZWpuskZicWVusWZeZkV-gwXdl3YcLHhYtOFHRf2gtgKFxsv7Luw6WLDha0X9gDx3gt7L3Zf2KoAZGy4sB8otftiD1ToYjtQa-PFbgZDEwsTI0sLQ3Mzhq-KERNcZr-8ufnP4luNTo1sAD2BS9M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o.mail.ru/redir?q=&#1082;&#1072;&#1088;&#1090;&#1080;&#1085;&#1082;&#1072;%20&#1079;&#1074;&#1086;&#1085;&#1103;&#1097;&#1077;&#1075;&#1086;%20&#1073;&#1091;&#1076;&#1080;&#1083;&#1100;&#1085;&#1080;&#1082;&#1072;&amp;via_page=1&amp;type=sr&amp;redir=eJzLKCkpsNLXz63UTUvMK0ksrtRLyUwsqtQrKtUvMLQ0NDQ2tDA31MsoyWW4sOvChosNF5su7LiwF8RWuLD9wqYL-y7svdh_sfPC1gubL-xTuLDxYvOFLUAVuy_2AFXtAKljMDSxMDGyNDcxsmCo_WGx6-Xf_Zr-QR9OmlZ_fgkAIYRCOQ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go.mail.ru/redir?q=&#1082;&#1072;&#1088;&#1090;&#1080;&#1085;&#1082;&#1080;%20&#1089;&#1086;&#1074;&#1088;&#1077;&#1084;&#1077;&#1085;&#1085;&#1099;&#1077;%20%20&#1095;&#1072;&#1089;&#1099;&amp;via_page=1&amp;type=sr&amp;redir=eJzLKCkpsNLXT04sKslNzNMrKdMvLskvSkxP1c_MK0ktSi3Oy9fPTIk3NLE0NYjPScxLjy8qjS8oAkrGV6YW62WU5OYwXNh1YcPFhotNF3Zc2Atk71C42Hhh34VNFxsubL2wB4j3Xth7sfvCVgWFi-1AhY0XuxkMTSxMjCwtjMzNGUTU5r_gu22eqvo2vVXd5Hk9AIrpRF0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s://mpwatch.ru/images/cms/data/raznoe140715/lowell_21504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go.mail.ru/redir?q=&#1089;&#1080;&#1084;&#1074;&#1086;&#1083;&#1099;%20&#1101;&#1083;&#1077;&#1082;&#1090;&#1088;&#1086;&#1085;&#1085;&#1099;&#1093;%20&#1095;&#1072;&#1089;&#1086;&#1074;%20&#1082;&#1072;&#1088;&#1090;&#1080;&#1085;&#1082;&#1072;&amp;via_page=1&amp;type=sr&amp;redir=eJzLKCkpsNLXL8lPzigoykzKL9LLL0rXT04sSczJT9fPTU3MK47PT4vPzEvLL8pNLMnMz4tPySwuyEms1M8oys_Lz00tKdJPzslPzo5PzUnNLinKjy8ryS_St3f1cfV19QuxNVE1MmC42Hhhx4U9FzZd2Hdh98VuhYu9F3Zf2Hph18Wmiw1Aob0X9l7svtiqcLH9wgagyn0XNilc2AVkNlxsAmrbC2IzGJpYmBhZWpiaWTK4zdd-k8Zyxvono43Ofa_WQgAq_1zd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Ly8v10vOyU_O1gURekWl-pbmFkZGehkluTkMF3Zd2HCx4WLThR0X9oLYChfbgQKNF_Zd2HSxEygIFGIwNLEwMbK0MDMzYsiNmLd5p-xLuRur5l3MM2kJBwDYRy-H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TywuKcrPyU_P1ysq1S_Oz8vLzNZ3zkgszi8rzgAyGS7surDhYsPFpgs7LuwFsRUutgMFGi_su7DpYidQECjEYGhiYWJkaWFmZsSwsMDT01Zn5dpXM1lnn1JwNgYApDwwhA" TargetMode="External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go.mail.ru/redir?q=&#1082;&#1072;&#1088;&#1090;&#1080;&#1085;&#1082;&#1072;%20&#1087;&#1077;&#1090;&#1091;&#1093;&#1072;&amp;via_page=1&amp;type=sr&amp;redir=eJzLKCkpKLbS1y8q1UspSk3MLS7JzE3VS87P1Vd1MVS1MASTRqouBqpOrmDSEYltBJZ1ArNNdcEcE5g0QpsumHKDqIJJAEljMGmqm5mbmJ5qZGJmZGpmZsxwYdeFDRcbLjZd2HFhL4itcGH_ha0Xmy42X2y9sIHB0MTCxMjS3NTcgqHOtStngh_Lq7yVzz47-ZldBQA7HEEN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7;&#1077;&#1074;&#1095;&#1080;&#1077;%20&#1087;&#1090;&#1080;&#1094;&#1099;%20&#1088;&#1086;&#1089;&#1089;&#1080;&#1080;&amp;via_page=1&amp;type=sr&amp;redir=eJzLKCkpsNLXN83OSSwu1stLLdHPzy4qrcpIzCotTs7IzNLNzSzSNdQFS-uHZaZU6haUZJYU6xsYWuoGpJYBlaRCRCp1g_KLizMz9TJKcnMYLuy6sOFiw8WmCzsu7AWxFS7sv7D1wqaL7UCBrUAOSOZi28VuhYsNF_ZdbLzYCBTfwWBoYmFiZGlubmDKsCXZwWRFxfe5F4Mu9M2USfEDAO9wTrk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6;&#1076;&#1091;&#1074;&#1072;&#1085;&#1095;&#1080;&#1082;&#1072;&amp;via_page=1&amp;type=sr&amp;redir=eJzLKCkpsNLXzy4tzixLzE7UKyrVT08tSCzJLNHPSU3OSM3LTNUtgDB0c_OLsvPL8ipzdYvzs_Nz9Rku7Lqw4WLDxaYLOy7sBbEVLuy7sOVi84VNFzZc2HuxHSgMFGQwNLEwMbI0N7c0YWh9feboZkGONI-lPzKvHVIuBAAMQzyT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82784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СОШ №1 СЕЛА НОВОСЫСОЕВ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65240" y="43344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rebuchet MS"/>
              </a:rPr>
              <a:t>Более 250 лет назад знаменитый естествоиспытатель Карл Линней составил свои первые «Часы Флоры». На клумбе в городе Упсале росли цветы, венчики которых открывались в определенной последовательности с 3—5 часов утра до полуночи. Там росли всем знакомый одуванчик, лен, картофель, яркая сарана, скромная кисличка..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cc[1]"/>
          <p:cNvPicPr/>
          <p:nvPr/>
        </p:nvPicPr>
        <p:blipFill>
          <a:blip r:embed="rId2"/>
          <a:stretch/>
        </p:blipFill>
        <p:spPr>
          <a:xfrm>
            <a:off x="293760" y="1295280"/>
            <a:ext cx="842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91480" cy="117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8088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е первые часы на земле- солнечны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ни были гениально простыми: воткнутый в землю шест. Вокруг него нарисована шкала време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евние гре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чали 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ще в 1459 г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 нашей э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review-image" descr="http://mtdata.ru/u20/photo9C1A/20267429735-0/big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51460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 солнышка спросила 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лько времени сейчас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лнце палку осветил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! Вот так раз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 потом я догадалась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лочку воткнула в грунт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уг вокруг нарисовал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исла, циферки – все тут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нь от палочки мгновенн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 мне тот ч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ько помнить нужно – сев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12 у н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review-image" descr="http://cs33.babysfera.ru/7/8/2/0/52651814.298534248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5238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7461360" cy="155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Андрей Усачёв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«Песочные часы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лю час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соч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кай о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очны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радуют прият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гляд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ремя мож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чь назад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11125[1]"/>
          <p:cNvPicPr/>
          <p:nvPr/>
        </p:nvPicPr>
        <p:blipFill>
          <a:blip r:embed="rId2"/>
          <a:stretch/>
        </p:blipFill>
        <p:spPr>
          <a:xfrm>
            <a:off x="4724280" y="1671480"/>
            <a:ext cx="3429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486640" cy="1079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мвол греческого бога времени Кроноса, которого древние греки считали главным судьей и великим целител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есочные часы и история неразделимы. Вот уже больше двух тысячелетий 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ерно служат человечеств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по-прежнему остаю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езаменимым предмет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ихода человека.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находят примен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медицин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сихологи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review-image" descr="http://fluper.ru/ffh/41/pesochnye_chasy_pre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3048120"/>
            <a:ext cx="4381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 2-м и 1-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ысячелети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о н.э. в Египт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Китае, Индии и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роили водяные час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з одного сосуда в друг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вномерно, по капля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ереливалась в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плавок со стрелк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пускал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ли поднимал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2[1]"/>
          <p:cNvPicPr/>
          <p:nvPr/>
        </p:nvPicPr>
        <p:blipFill>
          <a:blip r:embed="rId2"/>
          <a:stretch/>
        </p:blipFill>
        <p:spPr>
          <a:xfrm>
            <a:off x="4800600" y="1600200"/>
            <a:ext cx="412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17520" y="658800"/>
            <a:ext cx="8454960" cy="1176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00px-Klepsidra"/>
          <p:cNvPicPr/>
          <p:nvPr/>
        </p:nvPicPr>
        <p:blipFill>
          <a:blip r:embed="rId2"/>
          <a:stretch/>
        </p:blipFill>
        <p:spPr>
          <a:xfrm>
            <a:off x="228600" y="1828800"/>
            <a:ext cx="4000680" cy="48006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4343400" y="20574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будильник на земле был водяным, он  был и будильником и школьным звонком одновременно. Его изобретателем считают древнегреческого философа Платона, жившего за 400 лет до нашей эры. Этот прибор, придуманный Платоном для созыва своих учеников на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480520" cy="77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1271490_large"/>
          <p:cNvPicPr/>
          <p:nvPr/>
        </p:nvPicPr>
        <p:blipFill>
          <a:blip r:embed="rId2"/>
          <a:stretch/>
        </p:blipFill>
        <p:spPr>
          <a:xfrm>
            <a:off x="380880" y="1295280"/>
            <a:ext cx="3505320" cy="54295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114800" y="1447920"/>
            <a:ext cx="4267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солнечных и водяных часов, с нача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ились и первые огневые - свечные часы. Эти очень простые часы в виде длинной тонкой свечи с нанесенной по ее длине шкалой, сравнительно удовлетворительно показывали время, а в ночные часы они еще и освещали жил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17520" y="58572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karelka130big[1]"/>
          <p:cNvPicPr/>
          <p:nvPr/>
        </p:nvPicPr>
        <p:blipFill>
          <a:blip r:embed="rId2"/>
          <a:stretch/>
        </p:blipFill>
        <p:spPr>
          <a:xfrm>
            <a:off x="533520" y="1312920"/>
            <a:ext cx="3182760" cy="51642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4038480" y="18288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657 году голландский мастер Христиан Гюйгенс изобрел часы с маятником. Это стало возможным благодаря экспериментам и исследованиям, проводимым знаменитым математиком и астрономом Галилео Галилеем в 1580-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85840" y="530280"/>
            <a:ext cx="7669080" cy="115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Часы, которые висят      2. Наполь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стене, называются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стен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review-image" descr="http://g02.a.alicdn.com/kf/HTB1BAAmIXXXXXbvXFXXq6xXFXXXK/Black-cat-font-b-wall-b-font-font-b-clock-b-font-modern-design-cat-s.jpg">
            <a:hlinkClick r:id="rId2"/>
          </p:cNvPr>
          <p:cNvPicPr/>
          <p:nvPr/>
        </p:nvPicPr>
        <p:blipFill>
          <a:blip r:embed="rId3"/>
          <a:srcRect l="21807" t="9239" r="16623" b="5776"/>
          <a:stretch/>
        </p:blipFill>
        <p:spPr>
          <a:xfrm>
            <a:off x="457200" y="312408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75" name="preview-image" descr="http://go1.imgsmail.ru/imgpreview?key=4ddbcbcae8534c0f&amp;mb=imgdb_preview_1619">
            <a:hlinkClick r:id="rId4"/>
          </p:cNvPr>
          <p:cNvPicPr/>
          <p:nvPr/>
        </p:nvPicPr>
        <p:blipFill>
          <a:blip r:embed="rId5"/>
          <a:srcRect l="21259" t="-1682" r="0" b="0"/>
          <a:stretch/>
        </p:blipFill>
        <p:spPr>
          <a:xfrm>
            <a:off x="4648320" y="2133720"/>
            <a:ext cx="40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-8620200"/>
            <a:ext cx="8375760" cy="15106680"/>
          </a:xfrm>
          <a:prstGeom prst="rect">
            <a:avLst/>
          </a:prstGeom>
          <a:ln w="0">
            <a:noFill/>
          </a:ln>
        </p:spPr>
      </p:pic>
      <p:pic>
        <p:nvPicPr>
          <p:cNvPr id="227" name="preview-image" descr="http://pp.vk.me/c413728/v413728611/2dbf/Ru_k3jSj2q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676520"/>
            <a:ext cx="40147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review-image" descr="http://cartman.tv/img_215925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17524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skva-karmannye_chasy_hromirovannye_i_pozolochennye_322228"/>
          <p:cNvPicPr/>
          <p:nvPr/>
        </p:nvPicPr>
        <p:blipFill>
          <a:blip r:embed="rId2"/>
          <a:stretch/>
        </p:blipFill>
        <p:spPr>
          <a:xfrm>
            <a:off x="457200" y="1523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4876920" y="152388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изобрели немного раньше,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ычные для нас часы с браслетом. Они появи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VI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к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Такие часы носили на цепочке. Карманные часы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ные: круглые, в виде книги, креста, разных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яв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ом роскоши и были атрибутом богат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5790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506520"/>
            <a:ext cx="8448840" cy="1176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58194951_1272119975_2171"/>
          <p:cNvPicPr/>
          <p:nvPr/>
        </p:nvPicPr>
        <p:blipFill>
          <a:blip r:embed="rId2"/>
          <a:stretch/>
        </p:blipFill>
        <p:spPr>
          <a:xfrm>
            <a:off x="380880" y="12952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4"/>
          <p:cNvSpPr/>
          <p:nvPr/>
        </p:nvSpPr>
        <p:spPr>
          <a:xfrm>
            <a:off x="5029200" y="14479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е упоминание о механических часах относ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концу 6 столет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Современные механические часы были созданы нидерландским ученым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истианом Гюйгенсом в 165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952880" y="43434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искусстве механические часы являются символом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5556240" y="37353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ecee"/>
                </a:solidFill>
                <a:latin typeface="Arial"/>
              </a:rPr>
              <a:t>В искусстве ханические часы являются символом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853920" y="738360"/>
            <a:ext cx="7461360" cy="117612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3" descr="Lowell 21504">
            <a:hlinkClick r:id="rId2"/>
          </p:cNvPr>
          <p:cNvPicPr/>
          <p:nvPr/>
        </p:nvPicPr>
        <p:blipFill>
          <a:blip r:embed="rId3"/>
          <a:srcRect l="10006" t="13118" r="10006" b="14756"/>
          <a:stretch/>
        </p:blipFill>
        <p:spPr>
          <a:xfrm>
            <a:off x="380880" y="19810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290" name="preview-image" descr="http://go1.imgsmail.ru/imgpreview?key=6662d6e89d23f044&amp;mb=imgdb_preview_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228600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44440" y="585720"/>
            <a:ext cx="8448840" cy="11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000038-13[1]"/>
          <p:cNvPicPr/>
          <p:nvPr/>
        </p:nvPicPr>
        <p:blipFill>
          <a:blip r:embed="rId2"/>
          <a:stretch/>
        </p:blipFill>
        <p:spPr>
          <a:xfrm>
            <a:off x="533520" y="1371600"/>
            <a:ext cx="3809880" cy="49766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4876920" y="1523880"/>
            <a:ext cx="3886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йчас точность времени хранят атомные часы. Атомные часы имеют погрешность 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одну секунду за шесть миллионов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622440" y="506520"/>
            <a:ext cx="7461000" cy="1176120"/>
          </a:xfrm>
          <a:prstGeom prst="rect">
            <a:avLst/>
          </a:prstGeom>
          <a:ln w="0">
            <a:noFill/>
          </a:ln>
        </p:spPr>
      </p:pic>
      <p:pic>
        <p:nvPicPr>
          <p:cNvPr id="295" name="preview-image" descr="http://watches.ru/img/papers/chasovsch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7524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296" name="preview-image" descr="http://astrologo.ru/imason/Chasovshi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752480"/>
            <a:ext cx="3479760" cy="2590920"/>
          </a:xfrm>
          <a:prstGeom prst="rect">
            <a:avLst/>
          </a:prstGeom>
          <a:ln w="0">
            <a:noFill/>
          </a:ln>
        </p:spPr>
      </p:pic>
      <p:pic>
        <p:nvPicPr>
          <p:cNvPr id="297" name="preview-image" descr="http://24gadget.ru/uploads/posts/2012-04/1334214054_clipboard01.jpg"/>
          <p:cNvPicPr/>
          <p:nvPr/>
        </p:nvPicPr>
        <p:blipFill>
          <a:blip r:embed="rId6"/>
          <a:stretch/>
        </p:blipFill>
        <p:spPr>
          <a:xfrm>
            <a:off x="533520" y="4114800"/>
            <a:ext cx="4190760" cy="2513160"/>
          </a:xfrm>
          <a:prstGeom prst="rect">
            <a:avLst/>
          </a:prstGeom>
          <a:ln w="0">
            <a:noFill/>
          </a:ln>
        </p:spPr>
      </p:pic>
      <p:pic>
        <p:nvPicPr>
          <p:cNvPr id="298" name="preview-image" descr="http://cartman.tv/img_104526.jpeg"/>
          <p:cNvPicPr/>
          <p:nvPr/>
        </p:nvPicPr>
        <p:blipFill>
          <a:blip r:embed="rId7"/>
          <a:stretch/>
        </p:blipFill>
        <p:spPr>
          <a:xfrm>
            <a:off x="5867280" y="4191120"/>
            <a:ext cx="289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016840" cy="2987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.Анкетирова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Ноутбу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Термометр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Диаграмма 7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181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NP300v5as05\Pictures\i3.jpg"/>
          <p:cNvPicPr/>
          <p:nvPr/>
        </p:nvPicPr>
        <p:blipFill>
          <a:blip r:embed="rId2"/>
          <a:stretch/>
        </p:blipFill>
        <p:spPr>
          <a:xfrm>
            <a:off x="1076400" y="1523880"/>
            <a:ext cx="6481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оя гипотеза полностью подтверд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Необходимость часов на сегодняшний день очевидна! Мы живём во  временном ритме, сверяя со временем каждый свой ша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Привычный прибор «часы» имеют интересную историю соз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а стене висят час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о они не для красы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Для тог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чтоб время м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часам должны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ы в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3962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Дорожи минутой каждого дн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Сегодня, постарайся ничего не забы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Проживи этот день не зр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едь завтра может не бы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Уходит сегодня во вчер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 бездне времени утопает вс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Она поглощает дни навсегд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Береги, бегущее время св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review-image" descr="http://luxediamond.ru/wp-content/uploads/2015/01/karmannye-chasy-na-cepochke_2.jpg"/>
          <p:cNvPicPr/>
          <p:nvPr/>
        </p:nvPicPr>
        <p:blipFill>
          <a:blip r:embed="rId2"/>
          <a:stretch/>
        </p:blipFill>
        <p:spPr>
          <a:xfrm>
            <a:off x="6553080" y="2666880"/>
            <a:ext cx="222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6486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review-image" descr="http://pp.vk.me/c413728/v413728611/2dbf/Ru_k3jSj2qM.jpg"/>
          <p:cNvPicPr/>
          <p:nvPr/>
        </p:nvPicPr>
        <p:blipFill>
          <a:blip r:embed="rId2"/>
          <a:stretch/>
        </p:blipFill>
        <p:spPr>
          <a:xfrm>
            <a:off x="1981080" y="1523880"/>
            <a:ext cx="46245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30592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Собрать и систематизироват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териал по теме проек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Подготовить презентацию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тем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историю создания такого прибора, как часы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ветить тему «многообразие видов прибора для счета времен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ить свою гипот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rebuchet MS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Я считаю в современном мире без часов не обойтись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Поисковая рабо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. Мини – исследован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. Вывод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5. Эпилог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85816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етух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будильник и не ма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нимает утром ра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Петя – петуш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ый звонкий  голос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Никитина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review-image" descr="https://thumbs.dreamstime.com/z/%D0%BF%D0%B5%D1%82%D1%83%D1%85-2462566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752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review-image" descr="http://5klass.net/datas/okruzhajuschij-mir/Vidy-ptits/0019-019-Pevchie-ptitsy-Ross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3716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 реки - зелёный луг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уванчики вокру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сами умылис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ружно приоткрыли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фонарики горя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 с тобою говоря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асах ровно пя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ете ещё поспат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review-image" descr="http://doctorflora.ru/img/cliparts/oduvanchik_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75248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NP300v5as05</cp:lastModifiedBy>
  <cp:lastPrinted>1899-12-30T00:00:00Z</cp:lastPrinted>
  <dcterms:modified xsi:type="dcterms:W3CDTF">2017-02-05T09:58:0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